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3.png" ContentType="image/png"/>
  <Override PartName="/ppt/media/image26.png" ContentType="image/png"/>
  <Override PartName="/ppt/media/image1.png" ContentType="image/png"/>
  <Override PartName="/ppt/media/image28.wmf" ContentType="image/x-wmf"/>
  <Override PartName="/ppt/media/image17.png" ContentType="image/png"/>
  <Override PartName="/ppt/media/image16.wmf" ContentType="image/x-wmf"/>
  <Override PartName="/ppt/media/image27.wmf" ContentType="image/x-wmf"/>
  <Override PartName="/ppt/media/image15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E915-429A-43F5-A334-E1EBA9E4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DF3-7935-49BE-93F1-73E89EA4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823A-59C3-41E2-A046-040E7B9D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1E66-C123-4D75-B032-F0C8AD96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0D61-BBF7-44C0-A14E-070FF26D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B18F-EB97-4FE9-8236-74B0435B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AD2A-C35A-4273-ABFD-E5872181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C3AC-E547-4543-9BCA-7B146F2A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8783-2C15-4D81-9AE1-F10DF11F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8719-9CC3-48D8-96FE-5368BF45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712-0409-4AD8-BC52-0E9A46D1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2996-B415-4B59-B89F-693DFB4F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349B-5454-4DAC-8F07-5E603D74309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4" descr=""/>
          <p:cNvPicPr/>
          <p:nvPr/>
        </p:nvPicPr>
        <p:blipFill>
          <a:blip r:embed="rId1"/>
          <a:stretch/>
        </p:blipFill>
        <p:spPr>
          <a:xfrm>
            <a:off x="566640" y="128520"/>
            <a:ext cx="7583760" cy="23702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6"/>
          <p:cNvSpPr/>
          <p:nvPr/>
        </p:nvSpPr>
        <p:spPr>
          <a:xfrm>
            <a:off x="571680" y="2714760"/>
            <a:ext cx="785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азначен для студентов специальности – 190109.65 «Наземные транспортно-технологические средства» специализация – 190109.65-02 «Подъемно-транспортные, строительные, дорожные машины и оборудования» заочной формы обучения с применением дистанционных технолог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500040" y="571500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тель: ассистент кафедры ПТиДМ БГТУ им. В.Г. Шухо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копенко Владислав Станислав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311040" y="268200"/>
            <a:ext cx="8613720" cy="11588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4"/>
          <p:cNvSpPr/>
          <p:nvPr/>
        </p:nvSpPr>
        <p:spPr>
          <a:xfrm>
            <a:off x="428760" y="1500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ие блок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с помощью этой команды можно объединить несколько объектов в блок и работать далее с блоком, как с единым объек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Рисунок 1" descr=""/>
          <p:cNvPicPr/>
          <p:nvPr/>
        </p:nvPicPr>
        <p:blipFill>
          <a:blip r:embed="rId2"/>
          <a:stretch/>
        </p:blipFill>
        <p:spPr>
          <a:xfrm>
            <a:off x="500040" y="2786040"/>
            <a:ext cx="4402080" cy="15001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3643200" y="52862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ставки блока используется команд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ить бло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Рисунок 2" descr=""/>
          <p:cNvPicPr/>
          <p:nvPr/>
        </p:nvPicPr>
        <p:blipFill>
          <a:blip r:embed="rId3"/>
          <a:stretch/>
        </p:blipFill>
        <p:spPr>
          <a:xfrm>
            <a:off x="3214800" y="4500720"/>
            <a:ext cx="580536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99680" y="428760"/>
            <a:ext cx="81867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8680" indent="-328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работа при обучении данной дисциплины, является главным условием успешного освоения изучаемого материала и формирования высокого профессионализма, будущих бакалавров по направлению «Наземные транспортно-технологические комплексы». Самостоятельная, регулярная работа бакалавра на компьютере в модулях автоматизированного конструирован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M WinMachi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истемы КОМПАС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изучении дисциплины является обязательным условием для приобретения навыков и умений работы в этих программ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1279440" y="133200"/>
            <a:ext cx="7010640" cy="731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928440"/>
            <a:ext cx="71294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Рисунок 3" descr=""/>
          <p:cNvPicPr/>
          <p:nvPr/>
        </p:nvPicPr>
        <p:blipFill>
          <a:blip r:embed="rId2"/>
          <a:srcRect l="25816" t="20014" r="25441" b="11485"/>
          <a:stretch/>
        </p:blipFill>
        <p:spPr>
          <a:xfrm>
            <a:off x="642960" y="785880"/>
            <a:ext cx="81439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75060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3" descr=""/>
          <p:cNvPicPr/>
          <p:nvPr/>
        </p:nvPicPr>
        <p:blipFill>
          <a:blip r:embed="rId2"/>
          <a:stretch/>
        </p:blipFill>
        <p:spPr>
          <a:xfrm>
            <a:off x="804960" y="1600200"/>
            <a:ext cx="75340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968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643800" y="3071880"/>
            <a:ext cx="20001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Рисунок 17" descr=""/>
          <p:cNvPicPr/>
          <p:nvPr/>
        </p:nvPicPr>
        <p:blipFill>
          <a:blip r:embed="rId2"/>
          <a:stretch/>
        </p:blipFill>
        <p:spPr>
          <a:xfrm>
            <a:off x="142920" y="1000080"/>
            <a:ext cx="4500360" cy="34308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8" descr=""/>
          <p:cNvPicPr/>
          <p:nvPr/>
        </p:nvPicPr>
        <p:blipFill>
          <a:blip r:embed="rId3"/>
          <a:stretch/>
        </p:blipFill>
        <p:spPr>
          <a:xfrm>
            <a:off x="4687920" y="2643120"/>
            <a:ext cx="4376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968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Рисунок 16" descr=""/>
          <p:cNvPicPr/>
          <p:nvPr/>
        </p:nvPicPr>
        <p:blipFill>
          <a:blip r:embed="rId2"/>
          <a:stretch/>
        </p:blipFill>
        <p:spPr>
          <a:xfrm>
            <a:off x="214200" y="1143000"/>
            <a:ext cx="87156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8841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8" descr=""/>
          <p:cNvPicPr/>
          <p:nvPr/>
        </p:nvPicPr>
        <p:blipFill>
          <a:blip r:embed="rId2"/>
          <a:stretch/>
        </p:blipFill>
        <p:spPr>
          <a:xfrm>
            <a:off x="500040" y="785880"/>
            <a:ext cx="3306960" cy="2500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9" descr=""/>
          <p:cNvPicPr/>
          <p:nvPr/>
        </p:nvPicPr>
        <p:blipFill>
          <a:blip r:embed="rId3"/>
          <a:stretch/>
        </p:blipFill>
        <p:spPr>
          <a:xfrm>
            <a:off x="5357880" y="785880"/>
            <a:ext cx="3357360" cy="2536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0" descr=""/>
          <p:cNvPicPr/>
          <p:nvPr/>
        </p:nvPicPr>
        <p:blipFill>
          <a:blip r:embed="rId4"/>
          <a:stretch/>
        </p:blipFill>
        <p:spPr>
          <a:xfrm>
            <a:off x="142920" y="3429000"/>
            <a:ext cx="3000240" cy="22669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9" descr=""/>
          <p:cNvPicPr/>
          <p:nvPr/>
        </p:nvPicPr>
        <p:blipFill>
          <a:blip r:embed="rId5"/>
          <a:stretch/>
        </p:blipFill>
        <p:spPr>
          <a:xfrm>
            <a:off x="3214800" y="4071960"/>
            <a:ext cx="2827080" cy="21430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0" descr=""/>
          <p:cNvPicPr/>
          <p:nvPr/>
        </p:nvPicPr>
        <p:blipFill>
          <a:blip r:embed="rId6"/>
          <a:stretch/>
        </p:blipFill>
        <p:spPr>
          <a:xfrm>
            <a:off x="6072120" y="4535640"/>
            <a:ext cx="307188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1584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28400" y="2714760"/>
            <a:ext cx="825804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Через 2 точки</a:t>
            </a:r>
            <a:r>
              <a:rPr b="1" i="1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анда позволяет нарисовать отрезок прямой через две точ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Параллельно линии</a:t>
            </a:r>
            <a:r>
              <a:rPr b="1" i="1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анда позволяет провести линию,  параллельно существующе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Перпендикулярно линии</a:t>
            </a: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 -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анда позволяет провести линию, перпендикулярно существующе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Рисунок 41" descr=""/>
          <p:cNvPicPr/>
          <p:nvPr/>
        </p:nvPicPr>
        <p:blipFill>
          <a:blip r:embed="rId2"/>
          <a:stretch/>
        </p:blipFill>
        <p:spPr>
          <a:xfrm>
            <a:off x="1143000" y="2000160"/>
            <a:ext cx="66866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450720" y="566640"/>
            <a:ext cx="8242560" cy="860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28400" y="2286000"/>
            <a:ext cx="82580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9680" indent="-409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я в моду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M Grap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здаются из набора графических примитивов. Примитивы это отрезки прямой линии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ность, дуга, сплайн, строка текста, штриховка и т.п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09680" indent="-409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Рисунок 47" descr=""/>
          <p:cNvPicPr/>
          <p:nvPr/>
        </p:nvPicPr>
        <p:blipFill>
          <a:blip r:embed="rId2"/>
          <a:stretch/>
        </p:blipFill>
        <p:spPr>
          <a:xfrm>
            <a:off x="1428840" y="1428840"/>
            <a:ext cx="5857920" cy="7524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9" descr=""/>
          <p:cNvPicPr/>
          <p:nvPr/>
        </p:nvPicPr>
        <p:blipFill>
          <a:blip r:embed="rId3"/>
          <a:stretch/>
        </p:blipFill>
        <p:spPr>
          <a:xfrm>
            <a:off x="357120" y="3786120"/>
            <a:ext cx="4086360" cy="7146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8" descr=""/>
          <p:cNvPicPr/>
          <p:nvPr/>
        </p:nvPicPr>
        <p:blipFill>
          <a:blip r:embed="rId4"/>
          <a:stretch/>
        </p:blipFill>
        <p:spPr>
          <a:xfrm>
            <a:off x="5000760" y="4429080"/>
            <a:ext cx="3771720" cy="20001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285840" y="4549680"/>
            <a:ext cx="435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ивая / Многоугольни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команда предназначена для построения равносторонних многоугольник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активации этой командой в появившемся диалоговом окне необходимо указать количество вершин и тип создания будущего многоугольн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1"/>
          <a:stretch/>
        </p:blipFill>
        <p:spPr>
          <a:xfrm>
            <a:off x="493560" y="208080"/>
            <a:ext cx="8242560" cy="992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2714760" y="2571480"/>
            <a:ext cx="207144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р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2"/>
          <a:stretch/>
        </p:blipFill>
        <p:spPr>
          <a:xfrm>
            <a:off x="1143000" y="1500120"/>
            <a:ext cx="6921360" cy="10000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"/>
          <p:cNvPicPr/>
          <p:nvPr/>
        </p:nvPicPr>
        <p:blipFill>
          <a:blip r:embed="rId3"/>
          <a:stretch/>
        </p:blipFill>
        <p:spPr>
          <a:xfrm>
            <a:off x="1285920" y="3929040"/>
            <a:ext cx="6837480" cy="9288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6"/>
          <p:cNvSpPr/>
          <p:nvPr/>
        </p:nvSpPr>
        <p:spPr>
          <a:xfrm>
            <a:off x="2512800" y="50720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кальное отобра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8:38:33Z</dcterms:created>
  <dc:creator>servak</dc:creator>
  <dc:description/>
  <dc:language>en-US</dc:language>
  <cp:lastModifiedBy>Mk107</cp:lastModifiedBy>
  <dcterms:modified xsi:type="dcterms:W3CDTF">2014-07-11T07:08:27Z</dcterms:modified>
  <cp:revision>11</cp:revision>
  <dc:subject/>
  <dc:title>Интерфейс APM Graph</dc:title>
</cp:coreProperties>
</file>